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AA0-C664-428A-8E09-FADC22DC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B5B-DE0C-47EF-A7CB-CDE04F69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F4D-16B4-4702-8004-0F61457E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47E-57E1-40B7-A550-3698AA42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028-716D-4C8E-BBCF-E683E3D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59A-EB1C-475C-B56B-D1E8105B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8DF-3610-41BF-8968-67FB8B3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177-204C-4390-81B0-C71D4466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859-9D7B-4CE4-B4E6-5AF72FF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98F-7398-4FBF-8CBC-8FDA96F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0BC-50C4-4E1B-B65B-35DECA1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5EF-AD45-475B-AB42-4B53266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90A4-67D0-4958-84EF-61D1392C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6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ý opä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avíta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 verným odme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večné príbytky im prip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teraz má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človek t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torý v bázni zach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ätý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opä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vítal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lásky ho člove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l Pán Boh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šiestich dňoch svoje dielo dokonč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edmy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l, na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posvät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radostne uvít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všedných záľub sa ochotne 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hojným pok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darí ť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uchom svojím chc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tále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06:41Z</dcterms:modified>
  <cp:revision>22</cp:revision>
  <dc:subject/>
  <dc:title>Je veľký náš Pán, on slávy je Kráľ Nech do všetkých strán  spev vrúcnych znie chvál.</dc:title>
</cp:coreProperties>
</file>